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6B88-2725-4C1C-9773-54B8D1F99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0E7A-6D3E-47F6-874F-0DA8819A65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1060200" y="4351320"/>
            <a:ext cx="47307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FB7B-81A7-4C96-B546-25CD3297CA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385-929C-4A30-BE7F-56961A50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D49-813E-48A4-8F63-8C71E89D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4D2-F6AA-44C8-972E-B8AB54DD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87D-A70D-4184-BB15-8D692E6D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06D3-9638-4379-864A-3E0BC307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C589-0EB2-48EB-ADFE-B9D2AD57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9832-9E6A-43A1-A69B-E333993F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CE60-CD2F-46DD-AC04-F65D1BB8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FEE3-4013-4AB8-8358-25F56A0E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C9E9-4BF7-4048-9FC0-8AEC3673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2FDF-F969-4FED-9FC1-FDE07BBA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A1A-5324-474C-82DD-4F3ECAD9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FF2E-386E-4440-9958-D42DAF52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A782-413A-409B-9E53-5C5D4486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F9C6-4ED5-423E-BE68-68891DE9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A1BA-E262-4A32-8C2F-8E4FA405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EDC5-561C-4627-8200-5BD03172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C87-7773-46BC-BF8A-A55814A3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ADA-7D4B-43F2-9C97-2C1111C2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974-612F-4F21-8406-D9169B8B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0FB-6575-4547-AACF-30C5B029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A52-0931-476A-B8CE-1F509159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653-CC68-4690-A59C-FDE49C85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F83-676D-4F51-9041-3552A36B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FF23-EB81-4B23-BED7-38141D4AD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A221-9067-4EAB-8B83-3C5C45D955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Garamond"/>
              </a:rPr>
              <a:t>Мостови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Garamond"/>
              </a:rPr>
              <a:t>Дефиниција и опште карактеристике мос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Garamond"/>
              </a:rPr>
              <a:t>Делови мост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а</a:t>
            </a:r>
            <a:r>
              <a:rPr b="1" lang="fr-FR" sz="4000" spc="-1" strike="noStrike">
                <a:solidFill>
                  <a:srgbClr val="ffcc00"/>
                </a:solidFill>
                <a:latin typeface="Garamond"/>
              </a:rPr>
              <a:t> и принципи  планирања          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Индикације и контраиндикације за израду мос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Функцијска оптерећења носача мос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ормално периодонцијум једног здравог зуба м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 да се оптерети са ј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јадним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ланом исте вел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е оклузалне повр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е као његова без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етних последица, ако је при том конструкција на обе стране подупрта -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физиоло</a:t>
            </a:r>
            <a:r>
              <a:rPr b="1" lang="sr-Latn-CS" sz="32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ко правило двоструког оптере</a:t>
            </a:r>
            <a:r>
              <a:rPr b="1" lang="sr-Latn-CS" sz="32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ењ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 Другим 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ма два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 могу да поднесу притисак мастикације за ј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два зуба који недостају, ако су спојени у једну целину. Таква мостна конструкција није сув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 опте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колико 2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треба да носе 3 изгубљена зуба (3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а)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а гриз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моста мора да се редуцира за 1/3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е гриз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изгубљених зуб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зузетак од овог правила се прави код појединих сл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ева горњих фронталних мостова где 2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носе 4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а ( 3xx xx3). У б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ј регији израда мостова са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м распоном од 3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а на 2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је контраиндикова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Правило по Антеу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укупна периодонтална повр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а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 мора да буде ве</a:t>
            </a:r>
            <a:r>
              <a:rPr b="1" lang="sr-Latn-CS" sz="36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 или једнака укупној периодонталној повр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 изгубљених зуб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Постоје две врсте носача мост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) примарни и б) секундар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9900"/>
                </a:solidFill>
                <a:latin typeface="Arial"/>
              </a:rPr>
              <a:t>Примарни носачи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моста су зуби који непосредно ограничавају безуби простор. Они су обавезан саставни део сваког моста. Индикација за мост је првенствено одређена њиховом способношћу да поднесу додатна оптерећењ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800" spc="-1" strike="noStrike">
                <a:solidFill>
                  <a:srgbClr val="ff9900"/>
                </a:solidFill>
                <a:latin typeface="Arial"/>
              </a:rPr>
              <a:t>Секундарни носач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моста су зуби непосредно уз примарне носаче. Они су факултативни саставни део моста. Када за то постоји потреба, у конструкцију моста се укључују и секундарни носачи. Тада се разликују примарне и секундарне котве моста. Када су у конструкцију укључени и секундарни носачи, тада примарне и секундарне котве морају бити међусобно спојене ливеном спојницом у блок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3" descr="Untitled-9"/>
          <p:cNvPicPr/>
          <p:nvPr/>
        </p:nvPicPr>
        <p:blipFill>
          <a:blip r:embed="rId1"/>
          <a:stretch/>
        </p:blipFill>
        <p:spPr>
          <a:xfrm>
            <a:off x="0" y="3733920"/>
            <a:ext cx="2470320" cy="3124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Untitled-10"/>
          <p:cNvPicPr/>
          <p:nvPr/>
        </p:nvPicPr>
        <p:blipFill>
          <a:blip r:embed="rId2"/>
          <a:stretch/>
        </p:blipFill>
        <p:spPr>
          <a:xfrm>
            <a:off x="2556000" y="3789360"/>
            <a:ext cx="3330360" cy="210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Untitled-11"/>
          <p:cNvPicPr/>
          <p:nvPr/>
        </p:nvPicPr>
        <p:blipFill>
          <a:blip r:embed="rId3"/>
          <a:stretch/>
        </p:blipFill>
        <p:spPr>
          <a:xfrm>
            <a:off x="5715000" y="4648320"/>
            <a:ext cx="3429000" cy="2006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Garamond"/>
              </a:rPr>
              <a:t>Вредновање стубних зуба зависи од ви</a:t>
            </a:r>
            <a:r>
              <a:rPr b="1" lang="sr-Latn-CS" sz="36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3600" spc="-1" strike="noStrike">
                <a:solidFill>
                  <a:srgbClr val="33cccc"/>
                </a:solidFill>
                <a:latin typeface="Garamond"/>
              </a:rPr>
              <a:t>е фактор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Биол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ки фак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витал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врсто фиксиран зуб у вилиц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натомски фак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облик кру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број, облик и распоред корен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опографски фак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где се зуб налази у вилиц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ародонцијум као фак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конституционални тип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старост пацијен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порем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и артикулацијске равнот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морфол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е проме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Функционални факто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врста оклузиј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смер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однос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према суседним  зубима и антагонист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1. Биоло</a:t>
            </a:r>
            <a:r>
              <a:rPr b="1" lang="sr-Latn-CS" sz="32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ки фактори стубних зуб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Зависе од виталитета зуба-витални зуби могу поднети в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 опте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ње и имати д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 век трајања. Зуб треба бити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врст са резистентним периодонцијумом јер у одр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е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им сл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јевима депулпиран зуб добро изл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 је отпорнији од виталних раскл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их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. Анатомски факто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натомски облик, вел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а, број и распоред коренова у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на вредновање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. В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корени зуби са дивергентно постављеним кореновима су масивни и имају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вредност као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јер пр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у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отпор вертикалним и хоризонталним мастикаторним силам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ема анатомским обел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јима зуби се физиол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и могу по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ти: 6, 7, 3, 5, 4, 1, 2, 8. Умњаци се увек индивидуално процењују, могу се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к н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у групи другог молара ако су добро развијени и у групи доњих секу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када коренови нису довољно развијени. Депулпирани зуби су слаба т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а протетске конструкциј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Топографски фак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Подразумевају пол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ј зуба у зубном низу, растојање изм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, м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собни пол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ј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. 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њаци као гран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и зуби изм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фронталног и дисталног подр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ја имају в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ију позицију од секут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. Инклинирани зуби су мање вредни јер се притисак не преноси по оси зуба и неравномерно опте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ју пародонцијум а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сто захтевају и девитализациј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јам “мост“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еузет је из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грађевинарства-означава техничку направу која премошћује неку празнину а на крајевима је подупр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У стоматологији п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јам “мост“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означава зубну протезу која надомешта изгубљене зубе а посебним везама је везана за зубе који ограничавају зубни дефект. Притисак жвакања се при том преноси чисто дентално, преко зуба носача моста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636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Процена распона и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змеђу зуба носача-процењује се индивидуално, интраорално а не само према томе који зуби ограничавају празан простор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(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8xxxx3-превелики по распону а интраорално ако је умњак померен мезијално са добро развијеном круницом и кореновима простор је смањен и може се урадити мост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)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Пародонцијум као факт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Стање пародонцијума зависи од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конституционалних фактора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грађ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старости пацијента-40 г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времена трајања дефек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изражености поремећаја артикулацио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равнотеж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изражености морфолошких пром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повећање клиничке круне на рачун корен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Важност пародонцијума потиче и од тога шт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се у њему налази велики број рецептора, зат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очуван пародонцијум има очуван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неурорецепторни механизам-проприоцептор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аферентно еферентни путеви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)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 што омогућ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неуромускуларну координациј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Функционални фактор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-врста оклузиј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смер оптерећ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Функционалн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о стање зуба одређено 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односом зуба носача према суседн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зубима и антагонистима. Код доб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оклузије констатује се мањи или већ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степен абразије, добра артикулација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резистентан пародонцијум. Код оклузије с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неправилним оптерећењем констатује 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деструкција пародонталног тки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ff66"/>
                </a:solidFill>
                <a:latin typeface="Garamond"/>
              </a:rPr>
              <a:t>Зуб који је дуго био ван функције тј. ван оклузије ако поново буде оптерећен као носач моста његов потпорни апарат неће бити у стању да поднесе овај изненадни притисак, потребан је један период реадаптације на нове услове да би се овај зуб активира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ff66"/>
                </a:solidFill>
                <a:latin typeface="Garamond"/>
              </a:rPr>
              <a:t>Тип жвакања утиче као функционални фактор зуба-код масетеричног типа жвакања зуби су отпорнији и познају се по присуству абразије на оклузалним површинама. Код темпоралних типова жвакања зуби су без абразиј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cccc"/>
                </a:solidFill>
                <a:latin typeface="Garamond"/>
              </a:rPr>
              <a:t>М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a</a:t>
            </a:r>
            <a:r>
              <a:rPr b="1" lang="sr-CS" sz="2800" spc="-1" strike="noStrike">
                <a:solidFill>
                  <a:srgbClr val="33cccc"/>
                </a:solidFill>
                <a:latin typeface="Garamond"/>
              </a:rPr>
              <a:t>стикаторне силе и оптерећење зуба носа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При одређивању способности на оптерећење треба узети у обзир и величину мастикаторног притиска тј. снагу мастикаторних мишића који оптерећују одређени зуб као и смер којим сила оптерећује зуб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Силе које настају деловањем мастикаторних мишића, мишића образа, усана и језика у току мастикације, фонације и мимике шире се у различитим смеровим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ема смеру деловања те силе могу би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ксијалне, тангенцијалне, радијалн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(сагиталне и трансверзалне).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етнос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ила зависи од вел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силе и смер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деловања силе на зуб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Вели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на си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итисак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 тј. мастикаторне си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оје делују на зуб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зависе од стањ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зуба у супротној вилици, првенствено 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га да ли су зуби антагонисти природн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ли вест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ј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притисак дају природни зуб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нтагонисти, затим фиксне зубне протез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обилне зубне протезе (са дентогингивалним, п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а гингивалним преносом притиск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астикаторни  притисак природних зуба завис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д њиховог пародонталног стањ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обрнуто је пропорционал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даљености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од места на коме сила делуј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ј.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је удаљеност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зуба ј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ање. При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нецентри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ном оптер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њу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опорционално је мање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н удаљениј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;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је место деловања силе бл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је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Оптер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њ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дв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на од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ни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вертикални притисак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не мења се са њиховом удаљен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и не зависи од распона моста. Са по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њем 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теле моста укупно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у функцији расте због по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на коју делује притисак мастикације.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У су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тини носа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 су при ду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м телу моста ја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 оптер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ни него при кра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м, због в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х сила.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Пре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се у том сл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у сп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 укљ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вањем додатних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тј.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г број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cc"/>
                </a:solidFill>
                <a:latin typeface="Arial"/>
              </a:rPr>
              <a:t>Смер оптере</a:t>
            </a:r>
            <a:r>
              <a:rPr b="1" i="1" lang="sr-Latn-CS" sz="2400" spc="-1" strike="noStrike">
                <a:solidFill>
                  <a:srgbClr val="33cccc"/>
                </a:solidFill>
                <a:latin typeface="Arial"/>
              </a:rPr>
              <a:t>ћ</a:t>
            </a:r>
            <a:r>
              <a:rPr b="1" i="1" lang="en-US" sz="2400" spc="-1" strike="noStrike">
                <a:solidFill>
                  <a:srgbClr val="33cccc"/>
                </a:solidFill>
                <a:latin typeface="Arial"/>
              </a:rPr>
              <a:t>ењ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Потпорни апарат зуба реагује потпуно  друг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и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на аксијално и трансверзално оптер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ње. Ак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сила делује на зуб 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аксијално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тј. у смеру узду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осе зуба, сва влакна периодонцијума се напр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истовремено и равномерно. Такав н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и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оптер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њ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а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функционално адекватан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з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периодонцијум. Периодонцијум зато подноси пр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аксијалном оптер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њу без 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тете далеко в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силе од оних које настају при нормалној функцији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зубика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Дентални мостови су конструкције које надокнађују један или више изгубљених зуба, а посредством цементираних котви трајно су причвршћене за зубе носач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Ова дефиниција је механичка и односи се само на начин на који је надокнада причвршћена у устима пацијента. Будући да се појам денталног моста не ограничава само на надокнаде цементом трајно фиксиране у устима, већ обухвата и мостове на скидање, она је и непотпуна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Битна карактеристика мостова је да оптерећења којима су изложени у устима преносе на кост преко зуба носача и њихових периодонталних лигамената. Ово је идентично физиолошком преношењу оптерећења у природној дентициј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3" descr="Untitled-1"/>
          <p:cNvPicPr/>
          <p:nvPr/>
        </p:nvPicPr>
        <p:blipFill>
          <a:blip r:embed="rId1"/>
          <a:stretch/>
        </p:blipFill>
        <p:spPr>
          <a:xfrm>
            <a:off x="2124000" y="3332160"/>
            <a:ext cx="439272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8920" y="304560"/>
            <a:ext cx="87361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о 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љењу неких аутора здрав пери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донцијум не м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се преоптеретити аксијално. Зато се сматра да је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прворазредни задатак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код сваке протетске конструкције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осигурати да силе које настају при функцији протезе делују прет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но у смеру узду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не осе зуб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овољне се сматрају и силе које се ипак до некле 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д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љавају од уз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е осе зуба али се ј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увек пројектују у границама к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не алвеоле, п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и оне имају тенденцију да зуб потискују у алвеолу а не да га из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82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ноги аутори сматрају да при аксијалном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у зуба најбоље долази до изр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а рефлексна регулација сила притиск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 путем проприорецептора периодонцијума.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сув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великим силама изазива ос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 бола,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је сигнал CNSu за смањ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њ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деловања мастикаторне мускула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етно дејство хоризонталних и косих сила је директно пропорционално углу који заклапа смер деловања сила са уз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м осом зуба. Најопасније су силе које делују на зуб у смеру који је нормалан на уз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у осу зуб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еоспорно је да прибл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о хоризонталне силе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етно делују на периодонцијум ако се пројектују мимо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е алвеоле. Те силе имају тенденцију да ротирају зуб око центра ротације, који се налази прибл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о на граници изм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средње и апикалне т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е корена. Периодонцијум се при том опте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је неравномер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оклузалној т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, на страни деловања силе, а у апикалној т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 на страни смера повратне силе настају 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зоне </a:t>
            </a:r>
            <a:r>
              <a:rPr b="1" lang="sr-RS" sz="3200" spc="-1" strike="noStrike">
                <a:solidFill>
                  <a:srgbClr val="33cccc"/>
                </a:solidFill>
                <a:latin typeface="Garamond"/>
              </a:rPr>
              <a:t>истезањ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 У осталим деловима периодонцијума настају 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зоне </a:t>
            </a:r>
            <a:r>
              <a:rPr b="1" lang="sr-RS" sz="3200" spc="-1" strike="noStrike">
                <a:solidFill>
                  <a:srgbClr val="33cccc"/>
                </a:solidFill>
                <a:latin typeface="Garamond"/>
              </a:rPr>
              <a:t>притиск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компримованим областима стагнира циркулација крви, појављују се дегенеративне промене везивног потпорног апарата (периодонтално ткиво буде замењено гранулационим ткивом). На к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ном делу алвеоле настају ресорптивне промене. Периодонтална мембрана се пр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ује левкасто, к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ни алвеоларни лук се сн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, зуб се раскл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је и ако се деловање сила настави цео процес брзо напредује до потпуног ун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ења периодонцијума и елиминације зуб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Принцип 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аксијалног оптере</a:t>
            </a:r>
            <a:r>
              <a:rPr b="1" lang="sr-Latn-CS" sz="2800" spc="-1" strike="noStrike">
                <a:solidFill>
                  <a:srgbClr val="33cccc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ења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 зуба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 може с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прогласити </a:t>
            </a:r>
            <a:r>
              <a:rPr b="1" lang="sr-Latn-CS" sz="2800" spc="-1" strike="noStrike">
                <a:solidFill>
                  <a:srgbClr val="33cccc"/>
                </a:solidFill>
                <a:latin typeface="Arial"/>
              </a:rPr>
              <a:t>водећим протетичким принципом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ако се користи дентални пренос притиск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жвакања. Зато треба настојати да се искључ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трансверзалне силе или да се ограничи њихов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дејство на најмању могућу меру. Штет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дејство трансверзалних сила може се д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одређене мере спречити одговарајући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моделовањем гризних површина моста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моделирати ниже квржице са мањим нагиб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Овај начин је код природног</a:t>
            </a:r>
            <a:r>
              <a:rPr b="1" lang="sr-RS" sz="2800" spc="-1" strike="noStrike">
                <a:solidFill>
                  <a:srgbClr val="ccff66"/>
                </a:solidFill>
                <a:latin typeface="Arial"/>
              </a:rPr>
              <a:t> антагонистичк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зубика знатно ограничен тиме што се оклузал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површине мостова морају моделирати у скла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cff66"/>
                </a:solidFill>
                <a:latin typeface="Arial"/>
              </a:rPr>
              <a:t>а 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артикулацијом преосталог зубика пације</a:t>
            </a:r>
            <a:r>
              <a:rPr b="1" lang="sr-RS" sz="2800" spc="-1" strike="noStrike">
                <a:solidFill>
                  <a:srgbClr val="ccff66"/>
                </a:solidFill>
                <a:latin typeface="Arial"/>
              </a:rPr>
              <a:t>н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Много ефикасније се умањује дејство трансверзалних сила ако се чврсто споје зуби који стоје у обе половине зубика тако да њихове замишљене спојнице заклапају површину. Реч је о површинској фиксацији која блокира ефекат трансверзалних сила п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</a:t>
            </a: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 се тако постиже условно ефекат удлаг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Много су неповољнији односи ако стубни зуби стоје приближно у правој линији. Код такве линеарне фиксације цела конструкција има могућност ротације око заједничке осе која спаја центре ротације појединих зуб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Код конструкције денталних протеза увек додајемо нове гризне површине –стубним зубима додајемо ново оптерећење. Код линеарно фиксираних конструкција ово повећано опт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ећење не компензује се никако и зато индикације за ове конструкције се постављају веома опрезно и за њих се бирају најчвршћи стубни зуб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тетно дејство 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хоризонталних и косих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сила директно је пропорционално углу који заклапа смер деловања сила са уздужном осом зуба. Према томе најопасније су силе које делују на зуб у смеру који је нормалан на уздужну осу зуб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67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cccc"/>
                </a:solidFill>
                <a:latin typeface="Garamond"/>
              </a:rPr>
              <a:t>Биостатички односи</a:t>
            </a: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 су још гори  где тело моста прави лук у односу на линију која спаја стубне зубе. Овде се аксијални притисак жвакања који делује на мост мења у штетну силу којој цео систем не може дуго одолевати. При доношењу одлуке за мост одлучујуће је којом конструкцијом се лакше постиже површинска фиксација а тиме и заштита пародонцијума од штетног дејства трансверзалних сила. Значај површинској фиксацији дају многи аутори који сматрају да се једино њоме може постићи код већих протеза поуздана стабилност и заштита зуба носач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Ко</a:t>
            </a:r>
            <a:r>
              <a:rPr b="1" lang="sr-Latn-CS" sz="32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тани фундамент-основа мос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База моста м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 бити разматрана у 2 правц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1. локална база-коју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 целокупни потпорни апарат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2. оп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 база-коју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 целокупни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и скелет вилиц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доњој вилици оп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у базу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 компактни базални лук вилиц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 алвеоларни наставак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 алвеоле зуб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горњој вилици базални лук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алвеоларни наставак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алвеол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зугома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и наставак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фронтални настава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палатинални наставак тј. трајекторије преко којих се преноси притисак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Улога базе мост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је да прихвати и изд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притисак целог моста; да од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 и храни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моста преко неуроваскуларног система вилиц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ff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cccc"/>
                </a:solidFill>
                <a:latin typeface="Arial"/>
              </a:rPr>
              <a:t>Механички појам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моста-означава начин на који је зубна надокнада причвршћена за зубе носаче-цементиране фиксне надокнад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ff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cccc"/>
                </a:solidFill>
                <a:latin typeface="Arial"/>
              </a:rPr>
              <a:t>Биолошки појам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моста-означава све надокнаде са чисто денталним преносом притиска жвакања, независно од тога да ли су надокнаде цементиране или не. Ту се убрајају и моб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лни мостови који би се према механичкој подели зубних протеза могли сврстати у парцијалне протез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Отпорност ко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таног фундамента нема издвојено зн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ење, ве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се увек посматра у склопу нос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а мос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Као позитивни фактори у отпорности базе сматреју с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добро гр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ена и густа спонгиоза кост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изр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ен унутр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њи кортикални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слој алвеоле и равномерно 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ирок периодонтални простор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ирока апикална база вилиц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егативни фактори с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раз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а спонгиоза са раз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им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им гредицам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слабо изр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 унутр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њи кортикални слој алвеол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с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 или пр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рен пародонтални просто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Раз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а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а гр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 не гарантује довољну отпорност за конструкцију моста. У том смислу мандибула с обзиром на своју компактнију гр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има в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отпорност као база мос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осторно, локалну базу огран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ју линије које спајају зуб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моста и она је у облику троугласте, правоугаоне или полигонал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Увек је по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љно да мастикаторне силе падају у оквиру локалне баз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ко про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так неке силе пада ван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локалне базе моста, јавља се б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и извртање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. То се д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 код мостов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је је тело у луку (фронтални мостови), код крилних мостова (мостова са 1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м) или код мостова код којих се моделир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ока оклузална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а а к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це су латерално постављене те силе падају ван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баз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Сидра (котве) мос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идро је елеменат моста преко кога се мост пр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је за зуб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, примарно или секундарно тј. фиксном или мобилном вез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ао сидра за металне мостове употребљавају се след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конструкциј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цела ливена круниц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фасетирана круниц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кера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а крун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иц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круница на к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дели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 круниц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су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примар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везе-цементирана сид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4" descr="C:\Users\Jelena Todic\Downloads\images-7.jpeg"/>
          <p:cNvPicPr/>
          <p:nvPr/>
        </p:nvPicPr>
        <p:blipFill>
          <a:blip r:embed="rId1"/>
          <a:srcRect l="0" t="4302" r="0" b="29630"/>
          <a:stretch/>
        </p:blipFill>
        <p:spPr>
          <a:xfrm>
            <a:off x="4500720" y="3213000"/>
            <a:ext cx="452088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телескоп круниц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онус крун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леј или пинлеј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т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су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секундар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везе-код мобилних мосто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вака врста крунице м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се користити као сидро ако висина функционалне круне зуба и смер бр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них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а осигуравају довољну ретенцију кру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исина бр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ног зуба треба бити најмање 2/3 висине круниц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За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виталне зубе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долазе у обзир све набројане конструкције, осим крунице на ко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. На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невиталним зубима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не могу се употребљавати делим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не крунице и инлеји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Невитални зуби имају слабу зубну супстанцу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која мо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е да се ломи у току препарације и не пру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а довољну ретенцију. Из естетских резлога нису погодне за делим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не крунице јер зуб временом потамн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Најпогоднија сидра су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целе и фасетиране ливене круне као и метало-керам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ке круне у склопу метало-керам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ког моста -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обухватају 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итаву препарирану клин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ку круну зуба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.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За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виталне зубе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долазе у обзир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све набројане конструкције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,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најсигурнија ретенција и 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тите зубе од каријес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Делими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не кру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као сидра могу с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потребљавати само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код мањих мостов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где постоји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резистенција на каријес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 Техник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епарације и постизања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паралелност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лебова са смером уно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ња мост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р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то код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г броја сидара је компликова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Дели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 круница је функционално-ста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и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офилак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и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слабија од потпуне кру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 Сидр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е нај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у савременој протетици лију у склоп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оста тј. једноделним ливењем се изр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ју о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атеријала од кога се изр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ју и мостови: 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златне, платинско-златне легуре, од легуре 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бази паладијум-сребра или од специјалног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лик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за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еталокера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круниц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збор сидра и врста материјала зависи 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виталитет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естетске индикациј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предиспозиције за каријес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д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е тела мост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врсте оклузиј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http://media5.picsearch.com/is?sghLtmXehRCDBb5RNz_FbnjQJ_vCU0s6bAwrm7hifiU&amp;height=305"/>
          <p:cNvPicPr/>
          <p:nvPr/>
        </p:nvPicPr>
        <p:blipFill>
          <a:blip r:embed="rId1"/>
          <a:srcRect l="0" t="9713" r="0" b="0"/>
          <a:stretch/>
        </p:blipFill>
        <p:spPr>
          <a:xfrm>
            <a:off x="6076800" y="2276640"/>
            <a:ext cx="295920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de155"/>
                </a:solidFill>
                <a:latin typeface="Arial"/>
              </a:rPr>
              <a:t>Индикације</a:t>
            </a:r>
            <a:r>
              <a:rPr b="0" lang="sr-Latn-CS" sz="3600" spc="-1" strike="noStrike">
                <a:solidFill>
                  <a:srgbClr val="fde155"/>
                </a:solidFill>
                <a:latin typeface="Arial"/>
              </a:rPr>
              <a:t> за израду </a:t>
            </a: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мостова: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0" lang="sr-Latn-CS" sz="3600" spc="-1" strike="noStrike">
                <a:solidFill>
                  <a:srgbClr val="fde155"/>
                </a:solidFill>
                <a:latin typeface="Arial"/>
              </a:rPr>
              <a:t> Естетске индикације,</a:t>
            </a:r>
            <a:br>
              <a:rPr sz="3600"/>
            </a:b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0" lang="sr-Latn-CS" sz="3600" spc="-1" strike="noStrike">
                <a:solidFill>
                  <a:srgbClr val="fde155"/>
                </a:solidFill>
                <a:latin typeface="Arial"/>
              </a:rPr>
              <a:t> Протетске индикације</a:t>
            </a: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600"/>
            </a:b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0" lang="sr-Latn-CS" sz="3600" spc="-1" strike="noStrike">
                <a:solidFill>
                  <a:srgbClr val="fde155"/>
                </a:solidFill>
                <a:latin typeface="Arial"/>
              </a:rPr>
              <a:t> Профилактичке индикације</a:t>
            </a: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41767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de155"/>
                </a:solidFill>
                <a:latin typeface="Arial"/>
              </a:rPr>
              <a:t>Естетске</a:t>
            </a:r>
            <a:r>
              <a:rPr b="1" i="1" lang="sr-Latn-CS" sz="2000" spc="-1" strike="noStrike">
                <a:solidFill>
                  <a:srgbClr val="fde155"/>
                </a:solidFill>
                <a:latin typeface="Arial"/>
              </a:rPr>
              <a:t> индикације</a:t>
            </a:r>
            <a:r>
              <a:rPr b="1" i="1" lang="en-US" sz="2000" spc="-1" strike="noStrike">
                <a:solidFill>
                  <a:srgbClr val="fde155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-рестаурација оштећених </a:t>
            </a:r>
            <a:br>
              <a:rPr sz="2000"/>
            </a:b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површина зуба</a:t>
            </a:r>
            <a:r>
              <a:rPr b="1" lang="en-US" sz="2000" spc="-1" strike="noStrike">
                <a:solidFill>
                  <a:srgbClr val="fde155"/>
                </a:solidFill>
                <a:latin typeface="Arial"/>
              </a:rPr>
              <a:t> (обимна или многострука кариозна оштећења, </a:t>
            </a: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отежана или онемогућена ретенција испуна</a:t>
            </a:r>
            <a:r>
              <a:rPr b="1" lang="en-US" sz="2000" spc="-1" strike="noStrike">
                <a:solidFill>
                  <a:srgbClr val="fde155"/>
                </a:solidFill>
                <a:latin typeface="Arial"/>
              </a:rPr>
              <a:t>, недостатак инцизалног угла)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-зуби који су променили</a:t>
            </a:r>
            <a:r>
              <a:rPr b="1" lang="en-US" sz="2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боју </a:t>
            </a:r>
            <a:r>
              <a:rPr b="1" lang="en-US" sz="2000" spc="-1" strike="noStrike">
                <a:solidFill>
                  <a:srgbClr val="fde155"/>
                </a:solidFill>
                <a:latin typeface="Arial"/>
              </a:rPr>
              <a:t>(девитализација, тетрациклини, флуороза)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-абрадирани зуби,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3" descr="13"/>
          <p:cNvPicPr/>
          <p:nvPr/>
        </p:nvPicPr>
        <p:blipFill>
          <a:blip r:embed="rId1"/>
          <a:stretch/>
        </p:blipFill>
        <p:spPr>
          <a:xfrm>
            <a:off x="4572000" y="260280"/>
            <a:ext cx="3168720" cy="19764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87" name="Picture 4" descr="14"/>
          <p:cNvPicPr/>
          <p:nvPr/>
        </p:nvPicPr>
        <p:blipFill>
          <a:blip r:embed="rId2"/>
          <a:stretch/>
        </p:blipFill>
        <p:spPr>
          <a:xfrm>
            <a:off x="539640" y="4611600"/>
            <a:ext cx="3168720" cy="20574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88" name="Picture 5" descr="File0004"/>
          <p:cNvPicPr/>
          <p:nvPr/>
        </p:nvPicPr>
        <p:blipFill>
          <a:blip r:embed="rId3"/>
          <a:stretch/>
        </p:blipFill>
        <p:spPr>
          <a:xfrm>
            <a:off x="4572000" y="2421000"/>
            <a:ext cx="3168720" cy="203040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189" name="Picture 6" descr="1"/>
          <p:cNvPicPr/>
          <p:nvPr/>
        </p:nvPicPr>
        <p:blipFill>
          <a:blip r:embed="rId4"/>
          <a:stretch/>
        </p:blipFill>
        <p:spPr>
          <a:xfrm>
            <a:off x="4572000" y="4657680"/>
            <a:ext cx="3168720" cy="201132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7138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aramond"/>
              </a:rPr>
              <a:t>Могућност да се мостом санира безубост постоји у пацијената у којих и безуби алвеоларни гребен или гребенови су обострано ограничени зубима способним да поднесу додатна оптерећењ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3" descr="Untitled-5"/>
          <p:cNvPicPr/>
          <p:nvPr/>
        </p:nvPicPr>
        <p:blipFill>
          <a:blip r:embed="rId1"/>
          <a:stretch/>
        </p:blipFill>
        <p:spPr>
          <a:xfrm>
            <a:off x="304920" y="1828800"/>
            <a:ext cx="2743200" cy="2003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Untitled-8"/>
          <p:cNvPicPr/>
          <p:nvPr/>
        </p:nvPicPr>
        <p:blipFill>
          <a:blip r:embed="rId2"/>
          <a:stretch/>
        </p:blipFill>
        <p:spPr>
          <a:xfrm>
            <a:off x="2286000" y="2771640"/>
            <a:ext cx="2971800" cy="16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Untitled-6"/>
          <p:cNvPicPr/>
          <p:nvPr/>
        </p:nvPicPr>
        <p:blipFill>
          <a:blip r:embed="rId3"/>
          <a:stretch/>
        </p:blipFill>
        <p:spPr>
          <a:xfrm>
            <a:off x="4572000" y="3276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Untitled-7"/>
          <p:cNvPicPr/>
          <p:nvPr/>
        </p:nvPicPr>
        <p:blipFill>
          <a:blip r:embed="rId4"/>
          <a:stretch/>
        </p:blipFill>
        <p:spPr>
          <a:xfrm>
            <a:off x="6172200" y="480060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аномалије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оложаја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а</a:t>
            </a:r>
            <a:br>
              <a:rPr sz="2800"/>
            </a:b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(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ротирани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елонгиран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еправилно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остављен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)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Picture 3" descr="22"/>
          <p:cNvPicPr/>
          <p:nvPr/>
        </p:nvPicPr>
        <p:blipFill>
          <a:blip r:embed="rId1"/>
          <a:stretch/>
        </p:blipFill>
        <p:spPr>
          <a:xfrm>
            <a:off x="1332000" y="1413000"/>
            <a:ext cx="2952720" cy="26575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92" name="Picture 4" descr="17"/>
          <p:cNvPicPr/>
          <p:nvPr/>
        </p:nvPicPr>
        <p:blipFill>
          <a:blip r:embed="rId2"/>
          <a:stretch/>
        </p:blipFill>
        <p:spPr>
          <a:xfrm>
            <a:off x="4572000" y="1771560"/>
            <a:ext cx="3384720" cy="218916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93" name="Picture 5" descr="16"/>
          <p:cNvPicPr/>
          <p:nvPr/>
        </p:nvPicPr>
        <p:blipFill>
          <a:blip r:embed="rId3"/>
          <a:stretch/>
        </p:blipFill>
        <p:spPr>
          <a:xfrm>
            <a:off x="3132000" y="4292640"/>
            <a:ext cx="3003840" cy="22716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ransition spd="slow">
    <p:cover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недовољно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неправилно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развијен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природни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зуб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(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рахитис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Хачинсонови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амелогенеза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),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Picture 3" descr="File0006"/>
          <p:cNvPicPr/>
          <p:nvPr/>
        </p:nvPicPr>
        <p:blipFill>
          <a:blip r:embed="rId1"/>
          <a:stretch/>
        </p:blipFill>
        <p:spPr>
          <a:xfrm>
            <a:off x="4643280" y="3933720"/>
            <a:ext cx="3675240" cy="237492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196" name="Picture 4" descr="File0005"/>
          <p:cNvPicPr/>
          <p:nvPr/>
        </p:nvPicPr>
        <p:blipFill>
          <a:blip r:embed="rId2"/>
          <a:stretch/>
        </p:blipFill>
        <p:spPr>
          <a:xfrm>
            <a:off x="4643280" y="1268280"/>
            <a:ext cx="3673800" cy="22939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197" name="Picture 5" descr="5"/>
          <p:cNvPicPr/>
          <p:nvPr/>
        </p:nvPicPr>
        <p:blipFill>
          <a:blip r:embed="rId3"/>
          <a:stretch/>
        </p:blipFill>
        <p:spPr>
          <a:xfrm>
            <a:off x="539640" y="3978360"/>
            <a:ext cx="3600720" cy="233028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</p:spTree>
  </p:cSld>
  <p:transition spd="slow">
    <p:split dir="in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1"/>
          <p:cNvPicPr/>
          <p:nvPr/>
        </p:nvPicPr>
        <p:blipFill>
          <a:blip r:embed="rId1"/>
          <a:stretch/>
        </p:blipFill>
        <p:spPr>
          <a:xfrm>
            <a:off x="2484360" y="2548080"/>
            <a:ext cx="4032360" cy="32353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79311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успостављање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контактне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тачке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вештачком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круницом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са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риродним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7854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*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Протетск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индикациј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код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фиксних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протез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иц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ао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отв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мост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200"/>
            </a:b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одизањ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државањ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висин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грижај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атрициј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нижен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грижај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)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иц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справљањ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трауматс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клузиј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кратит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уб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ој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ј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упраоклузиј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e155"/>
                </a:solidFill>
                <a:latin typeface="Garamond"/>
              </a:rPr>
              <a:t>*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Протетск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индикациј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код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мобилних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протез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ретенцију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укиц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арцијалн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ротез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реобликовањ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клузалн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овршин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мештај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клузалног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наслон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, </a:t>
            </a:r>
            <a:br>
              <a:rPr sz="3200"/>
            </a:b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штит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ретенционог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уб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мултипним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спуним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1" i="1" lang="sr-Latn-CS" sz="36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600" spc="-1" strike="noStrike">
                <a:solidFill>
                  <a:srgbClr val="fde155"/>
                </a:solidFill>
                <a:latin typeface="Arial"/>
              </a:rPr>
              <a:t>Профилактичке</a:t>
            </a:r>
            <a:r>
              <a:rPr b="1" i="1" lang="en-US" sz="36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600" spc="-1" strike="noStrike">
                <a:solidFill>
                  <a:srgbClr val="fde155"/>
                </a:solidFill>
                <a:latin typeface="Arial"/>
              </a:rPr>
              <a:t>индикације</a:t>
            </a:r>
            <a:r>
              <a:rPr b="1" i="1" lang="en-US" sz="3600" spc="-1" strike="noStrike">
                <a:solidFill>
                  <a:srgbClr val="fde155"/>
                </a:solidFill>
                <a:latin typeface="Arial"/>
              </a:rPr>
              <a:t>:</a:t>
            </a:r>
            <a:br>
              <a:rPr sz="3600"/>
            </a:br>
            <a:br>
              <a:rPr sz="3600"/>
            </a:b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штиту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чувањ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оложај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уб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цервикалн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аријес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од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дец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1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4608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Апсолут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едовољно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уњен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канал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корена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атолошке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ромене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а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ериапексу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2800"/>
            </a:b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расклаћен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III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IV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степ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e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а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)</a:t>
            </a:r>
            <a:br>
              <a:rPr sz="2800"/>
            </a:b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са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акутним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узнапредовалим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обољењем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a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род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o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т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a,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3" descr="20"/>
          <p:cNvPicPr/>
          <p:nvPr/>
        </p:nvPicPr>
        <p:blipFill>
          <a:blip r:embed="rId1"/>
          <a:stretch/>
        </p:blipFill>
        <p:spPr>
          <a:xfrm>
            <a:off x="5940360" y="1413000"/>
            <a:ext cx="1901880" cy="23778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205" name="Rectangle 4"/>
          <p:cNvSpPr/>
          <p:nvPr/>
        </p:nvSpPr>
        <p:spPr>
          <a:xfrm>
            <a:off x="179280" y="333360"/>
            <a:ext cx="8964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de155"/>
                </a:solidFill>
                <a:latin typeface="Arial"/>
              </a:rPr>
              <a:t>Контраиндикације</a:t>
            </a:r>
            <a:r>
              <a:rPr b="1" i="1" lang="sr-Latn-CS" sz="36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0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израду</a:t>
            </a:r>
            <a:r>
              <a:rPr b="0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фиксних</a:t>
            </a:r>
            <a:r>
              <a:rPr b="0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протетских</a:t>
            </a:r>
            <a:r>
              <a:rPr b="0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надокнада</a:t>
            </a:r>
            <a:r>
              <a:rPr b="0" i="1" lang="en-US" sz="3200" spc="-1" strike="noStrike">
                <a:solidFill>
                  <a:srgbClr val="fde155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5" descr="15"/>
          <p:cNvPicPr/>
          <p:nvPr/>
        </p:nvPicPr>
        <p:blipFill>
          <a:blip r:embed="rId2"/>
          <a:stretch/>
        </p:blipFill>
        <p:spPr>
          <a:xfrm>
            <a:off x="5651640" y="4344840"/>
            <a:ext cx="2724120" cy="16970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ransition spd="slow"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86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дубоки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циркуларни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кариес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н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врату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зуб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200"/>
            </a:b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висок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степен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атрициј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абразиј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),</a:t>
            </a:r>
            <a:br>
              <a:rPr sz="3200"/>
            </a:b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лоша</a:t>
            </a: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хигијена</a:t>
            </a: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уста</a:t>
            </a: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зуб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3" descr="26"/>
          <p:cNvPicPr/>
          <p:nvPr/>
        </p:nvPicPr>
        <p:blipFill>
          <a:blip r:embed="rId1"/>
          <a:stretch/>
        </p:blipFill>
        <p:spPr>
          <a:xfrm>
            <a:off x="2556000" y="3200400"/>
            <a:ext cx="3887640" cy="23162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ransition spd="slow">
    <p:strips dir="l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Релативне</a:t>
            </a:r>
            <a:br>
              <a:rPr sz="3200"/>
            </a:br>
            <a:br>
              <a:rPr sz="3200"/>
            </a:b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у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фази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ендодонтске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терапије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000"/>
            </a:b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у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фази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пародонталне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терапије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000"/>
            </a:b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животн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доб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доњ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границ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16-20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годин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,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горњ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границ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ависи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од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локалног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налаза и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клиничког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статус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),</a:t>
            </a:r>
            <a:br>
              <a:rPr sz="3000"/>
            </a:b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-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израда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круне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на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дравом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убу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Garamond"/>
              </a:rPr>
              <a:t>Тело мо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Под појмом “тело моста”се подразумева део моста који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надоме</a:t>
            </a:r>
            <a:r>
              <a:rPr b="1" lang="sr-Latn-CS" sz="24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та изгубљене зубе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 тј.  попуњава постоје</a:t>
            </a:r>
            <a:r>
              <a:rPr b="1" lang="sr-Latn-CS" sz="24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и дефект зубног низ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Тело моста успоставља континуитет прекинутог зубног низа и функцију изгубљених зуба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 (мастикацију, естетику и фонетику) тј. комплетну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оклузију и артикулациј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Спре</a:t>
            </a:r>
            <a:r>
              <a:rPr b="1" lang="sr-Latn-CS" sz="24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авају</a:t>
            </a:r>
            <a:r>
              <a:rPr b="1" lang="sr-Latn-CS" sz="24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и инклинацију зуба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 према празном-безубом простору и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елонгацију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 антагониста-</a:t>
            </a:r>
            <a:r>
              <a:rPr b="1" lang="en-US" sz="2400" spc="-1" strike="noStrike">
                <a:solidFill>
                  <a:srgbClr val="33cccc"/>
                </a:solidFill>
                <a:latin typeface="Garamond"/>
              </a:rPr>
              <a:t>тело моста делује превентивно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3" descr="Untitled-13"/>
          <p:cNvPicPr/>
          <p:nvPr/>
        </p:nvPicPr>
        <p:blipFill>
          <a:blip r:embed="rId1"/>
          <a:stretch/>
        </p:blipFill>
        <p:spPr>
          <a:xfrm>
            <a:off x="5292720" y="333360"/>
            <a:ext cx="295128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Дефинитивну одлуку о изради моста лекар ће донети после прикупљања анамнестичких података, детаљног клиничког прегледа пацијента, анализе његовог радиограма и модела за студије. На основу свега располагаће већим бројем информација у вези са општим и оралним здрављем пацијента, карактеристикама оклузије, стањем потенцијалних носача моста и њиховом способношћу да поднесу додатна оптерећења, стањем оралне хигијене у пацијента итд. Када размотри све прикуп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љ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ене информације и међусобно их повеже, лекар ће утврдити да ли је потребно код одређеног пацијента провести успешну протетску терапију мостом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 поп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м пресеку тела моста м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мо размат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р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ти след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делов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оклузална повр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н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средњи део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део који даје механ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у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рстину и висину тела мост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гингивални део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тела мос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Оклузална повр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вај део тела моста је одговоран за ефикасност мастикације, време мастикације а са тим и за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, антагониста и мастикаторне мускулатуре, и ТМЗ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рина оклузалне повр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не тела мост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и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рељеф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ј.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исина, облик и поло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ај квр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ца ути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у на ефекат мастикациј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оптер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ње зуба носа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а и мастикаторне мускулатур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итање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е мастикатор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је питање које је спорно у литератур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од нас се ј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увек заступа 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љење да је потребно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редуцирати оклузалну повр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ну и то за 1/3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рине оклузал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изгубљених зуба. Другим 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ма то би зн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ло да је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рина оклузалне повр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не молар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који се надом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ју једнак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и оклузал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природних премолар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а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премолар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у мосту једнак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и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мезијалног носа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а моста тј. о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ња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 тај н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 се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смањује притисак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од стране антагониста и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астикација хране са редуцираном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ом је слабија и за постизање ефекта је потребно в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времен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ако се п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од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њенице да је крајни ефекат функције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-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на хра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рајни ефекат мастикације зависи од два фактор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*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силе мастикациј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 као резултат контракције мастикаторне мускулатуре под сталним утицајем неуромускуларне контрол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*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ремен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мастикациј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времена деловања сил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Код мостова са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роком оклузалном повр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ном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мастикација траје кр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али су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нос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за време мастикације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и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 оптере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ни и обрнуто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, код мостова са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редуцираном гризном повр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ном, мастикација траје ду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али су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нос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у том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моменту мање оптере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ни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Јеке сил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које трају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кратко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изазивају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реверзибилне промене на пародонцијуму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Дуг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ко дејство сил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, када су оне и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слабиј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стимулира ресорпцију кости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, док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кр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 дејство сила с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т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мули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 апозицију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к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in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9120" y="609480"/>
            <a:ext cx="853452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оставља се питање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 је боље примени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 оптер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ње за кра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 време или обрнуто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мање оптер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ње за ду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 врем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број аутора мисли да редуцира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а треб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е рад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ти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само ако број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ова тела моста је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од 2, када ј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тпорност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ова смањена (к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фасетирања) или ако тело моста има доваљн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исин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!cid_002f01c4f295$18a175a0$0100007f@niko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Саставни елементи мост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1.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зуби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2.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сидра-котве-везе моста (примарне и секундар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3.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ело моста-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ланови мос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4.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и фундамен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Мостној конструкциј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припада сидро и тел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моста.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 и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фундамент сусастав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делови организ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Untitled-2"/>
          <p:cNvPicPr/>
          <p:nvPr/>
        </p:nvPicPr>
        <p:blipFill>
          <a:blip r:embed="rId1"/>
          <a:stretch/>
        </p:blipFill>
        <p:spPr>
          <a:xfrm>
            <a:off x="5886360" y="2660760"/>
            <a:ext cx="3257640" cy="41972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Зуби носа</a:t>
            </a:r>
            <a:r>
              <a:rPr b="1" lang="sr-Latn-CS" sz="3200" spc="-1" strike="noStrike">
                <a:solidFill>
                  <a:srgbClr val="33cccc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и-стубни зуб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Зуб или корен на коме је мос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при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вр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ш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-стање зуба нос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а, број, распоре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Нос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и моста преко сидра примај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притисак 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жвакања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са тела моста и прек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свог потпорног апарата (периодонцијум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преносе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г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на ко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тани фундамен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http://media2.picsearch.com/is?uNCnu3fiscyEBlL3wUsVOggp3SPcm7ostqiI-uYcG80&amp;height=320"/>
          <p:cNvPicPr/>
          <p:nvPr/>
        </p:nvPicPr>
        <p:blipFill>
          <a:blip r:embed="rId1"/>
          <a:srcRect l="0" t="0" r="0" b="59596"/>
          <a:stretch/>
        </p:blipFill>
        <p:spPr>
          <a:xfrm>
            <a:off x="5796000" y="1268280"/>
            <a:ext cx="3233880" cy="17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media2.picsearch.com/is?uNCnu3fiscyEBlL3wUsVOggp3SPcm7ostqiI-uYcG80&amp;height=320"/>
          <p:cNvPicPr/>
          <p:nvPr/>
        </p:nvPicPr>
        <p:blipFill>
          <a:blip r:embed="rId2"/>
          <a:srcRect l="0" t="53691" r="0" b="7222"/>
          <a:stretch/>
        </p:blipFill>
        <p:spPr>
          <a:xfrm>
            <a:off x="5796000" y="4365720"/>
            <a:ext cx="3233880" cy="1747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media4.picsearch.com/is?STKw39d5fY4z6GW5hxMB58JrtzDYLfLcqobCWcBw1Cs&amp;height=341"/>
          <p:cNvPicPr/>
          <p:nvPr/>
        </p:nvPicPr>
        <p:blipFill>
          <a:blip r:embed="rId3"/>
          <a:srcRect l="0" t="0" r="0" b="41231"/>
          <a:stretch/>
        </p:blipFill>
        <p:spPr>
          <a:xfrm>
            <a:off x="1122480" y="4184640"/>
            <a:ext cx="337824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ccff66"/>
                </a:solidFill>
                <a:latin typeface="Arial"/>
              </a:rPr>
              <a:t>Носачи моста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 су зуби на које се цементирају котве или ретинери моста. Они носе целу конструкцију и, поред сопствених, подносе и оптерећења биолошки намењена изгубљеним зубима. Зато зуби који се желе употребити као носачи моста морају бити у стању да поднесу додатна оптерећења. Најповољније је када су зуби носачи витални. Међутим, и депулпиран зуб се може употребити као носач моста. Треба да је ендодонтски ваљано саниран и да је без клиничких и рендгенографских знакова периапикалног процеса. Пре укључивања у мост депулпиран зуб треба механички ојачати надоградњом са кочићем у каналу корен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Untitled-4"/>
          <p:cNvPicPr/>
          <p:nvPr/>
        </p:nvPicPr>
        <p:blipFill>
          <a:blip r:embed="rId1"/>
          <a:stretch/>
        </p:blipFill>
        <p:spPr>
          <a:xfrm>
            <a:off x="4788000" y="4392720"/>
            <a:ext cx="3962160" cy="246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elena Todic\Downloads\images-8(2).jpeg"/>
          <p:cNvPicPr/>
          <p:nvPr/>
        </p:nvPicPr>
        <p:blipFill>
          <a:blip r:embed="rId2"/>
          <a:stretch/>
        </p:blipFill>
        <p:spPr>
          <a:xfrm>
            <a:off x="250920" y="4486320"/>
            <a:ext cx="4222800" cy="227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1:06:56Z</dcterms:created>
  <dc:creator>Zorica</dc:creator>
  <dc:description/>
  <dc:language>en-US</dc:language>
  <cp:lastModifiedBy>Office2010</cp:lastModifiedBy>
  <dcterms:modified xsi:type="dcterms:W3CDTF">2017-07-16T15:37:10Z</dcterms:modified>
  <cp:revision>31</cp:revision>
  <dc:subject/>
  <dc:title>Slide 1</dc:title>
</cp:coreProperties>
</file>